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86DE-5837-4A8B-9138-35AF1E7A5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7494-16A5-45BF-B221-968F01397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BA1-633C-4007-B096-59E6653C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B28-24A8-41F0-84E7-3BED8A7A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F58-FF8A-4719-B18F-06470045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A59-6339-4AF9-807E-68924531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F100-4E7D-426E-B4F5-56C23447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6046-73D5-446E-8E5B-0244271A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9BFD-B8DB-4D21-BAD1-A24623F3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BB21-59B9-42DF-8ADC-3C8D23A8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B728-04A9-4273-B542-333F6619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9330-A1C8-4902-8434-E6CDC470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99E5-CC2F-4DF8-9D3F-C40F7B73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31F-DAE7-4028-8893-73ADDE4B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F8BD-B2F7-4F82-BB4B-0179527E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BDF8-56B7-43B9-988C-932E4F6A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EF6E-A701-41DE-87E1-85D4F86A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ECC4-358C-457E-AEB3-783530F7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B951-05E6-45DB-AECC-1BC0B050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A623E-56A6-46BA-95FB-EF3B6F79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3EBB4-4514-40CE-92D4-14B1DA15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08509-D06E-4EC6-8606-AA834B3E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B03F5-EA4F-45A1-926C-4554EAA2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4D97A-80A6-403E-AF0C-B9B704FA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314-DCE1-4E1F-8926-5C86CC87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1741C-C9CA-4F00-9272-242918A1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2CD07-DEBC-45C8-982A-EF359EDC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069E3-0A43-4D4D-B38E-8F9C649B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0AAD7-8CD7-4214-B6EB-96FF16AA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57124-10C1-4B20-A47F-4F5D51AB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A8B61-B9C0-4D95-8848-15646A11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D0C3D-8C02-44D6-8255-3FF3B490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AA16C-740C-486F-81B3-9B933A73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7469B-70A8-4C77-B68E-FF24D6ED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9D5CC-01A8-4B3E-97C5-B5287293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882-F0F3-4439-A35F-E277A599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11F8-4105-4A94-A9AF-222DAFD3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B9546-38B8-4DB9-99BE-932EDE2E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BBA9-F06A-407E-B02C-3E462D48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C72C3-8F4E-4B7A-84F6-AE45D392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756CF-09BF-4624-864D-A3D4C0EE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0D696-CBAA-4ED8-B336-6062EC15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666D9-BA78-406E-A8AC-9AC3E1CA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F5280-6460-4D97-8AE9-7D12CD9A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FD763-E8C7-4572-8BA0-35B3F740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2D449-6296-4D6B-ABB6-D6EEBB1A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FE4-A935-4B54-A390-8654FB37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751B4F-E411-4B1A-B6C4-B0291377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8E477-9196-4F39-A8AA-42509181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CCC45D-B2E0-43E4-8CB6-94B95B05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75BA1-313E-4FEB-BB07-3E912488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BE2CED-59C7-4125-876A-E66D1BA9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9AB68-D686-4F76-A813-8D995A32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9840D-19C9-4841-A3FD-B7971D15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34BFA-5B3F-4B6C-8D09-FA55AA64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32E17-81C0-418C-86A9-52EF84A6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55B16-330C-4958-97AB-6D377335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5E9-2626-465C-815B-E17B9DC3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1B4E6-65CC-40D5-A6F1-26E3CA8B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C21D1D-BA35-4C38-9056-00E64294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6C6B7-F179-4064-9267-5855FC31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EA4D8-6AA0-42CE-AEA9-B59D46F7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B071D-C788-4196-9DF5-BEF0F0D3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DA830-C79B-4F60-80E1-1AEDF7DE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EAF37D-8279-4B6B-BFC0-9F3D0E59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07EB17-345C-45DD-B614-C6F40559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27A897-A7E1-48EB-9407-9546B46A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B4EA9E-62F4-4CA4-8614-2FD404B3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A46-BEDE-418F-AEE2-CAA4CDFB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836B4-82E3-4E8A-A412-847EC789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3E580-658B-41D2-9487-8C6B405C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30906-73DB-4837-968D-AB306D5E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3D32C-8BAF-49CE-9C3F-2CD2B760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922798-764E-4C0F-ABC5-7DEC92B4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9F4DB-9199-4B2D-B01F-4384C76A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AFB51-56B0-4464-96D0-7D63B8C9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C89F4-E3F5-4193-BE43-BE376ECE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E2EDA-8F10-4841-AF3F-847E5953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7C2F9-EB5E-45F0-AEF4-21FB3C38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780-D4B9-4370-8B27-F71BA8C3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CC7476-F78C-4459-A436-DAF08165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72A4AE-335D-4350-B94F-A21B17FF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6F8DBF-A166-4F34-8840-3E2F69F0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C718C-0C66-4813-B5BA-E0166CAB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1A8350-469E-401B-A0BC-7DE5E0CB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4BF-3969-4652-AC79-04CAB290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D634-DEE4-4402-AB93-2C854779E6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D3E6-053B-49A7-A32D-37C13F4E95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8243-A06A-4DC0-B7F1-4FA40736FB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D36E-CEFB-42B4-8F71-A3AA873766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EC6D-9429-4145-AA3A-E509B70DC6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E2D0-AE8B-4E35-AD6B-0BA2AE04B3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2F7C-87F8-4A43-9346-08EC45B377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&amp;I 264: POINT OF VIEW AND COMPREHENS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arch 5, 201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533520" y="1752480"/>
            <a:ext cx="81532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Synthesize informatio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 Readers track their thinking as it evolves during reading, to get the overall meaning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Use fix up strategi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 Readers are aware of when they understand and when they don’t.  If they have trouble understanding specific words, phrases, or longer passages, they use problem-solving strategies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https://encrypted-tbn3.gstatic.com/images?q=tbn:ANd9GcTtyfufzoFOMw8-ZHgpnAq2tae9_RRNjh6bLjJaWV-GdFlzhQvQJg"/>
          <p:cNvPicPr/>
          <p:nvPr/>
        </p:nvPicPr>
        <p:blipFill>
          <a:blip r:embed="rId1"/>
          <a:stretch/>
        </p:blipFill>
        <p:spPr>
          <a:xfrm rot="19611600">
            <a:off x="104400" y="44280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4"/>
          <p:cNvSpPr/>
          <p:nvPr/>
        </p:nvSpPr>
        <p:spPr>
          <a:xfrm>
            <a:off x="2133720" y="304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doni MT Black"/>
              </a:rPr>
              <a:t>7 </a:t>
            </a:r>
            <a:r>
              <a:rPr b="1" lang="en-US" sz="4400" spc="-1" strike="noStrike">
                <a:solidFill>
                  <a:srgbClr val="000000"/>
                </a:solidFill>
                <a:latin typeface="Bodoni MT Black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COMPREHENSIO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0880" y="106668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e process by which we read and get meaning from tex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t is the heart of reading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It happens while we read and as a result of reading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Different types of texts require different comprehending strategies (Common Core stress reading of Informational Texts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We also need to teach students how to think critically about texts. (Question, respond, challenge, connect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entury Schoolbook"/>
              </a:rPr>
              <a:t>Mentor Texts for Comprehens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http://www.mauryk12.org/Literacy/reading%20mentor%20texts.htm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BEFORE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REA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088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eacher will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otivate students through activities that may increase their interest (book talks, dramatic readings, or displays of art related to the text), making the text relevant to students in some wa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ctivate students' background knowledge related to the content of the text by discussing what students will read and what they already know about its topic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iscuss the organization of the tex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FORE REA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stablish a purpose for read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dentify and discuss difficult words, phrases, and concepts in the tex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eview the text (by surveying the title, illustrations, and unusual text structures) to make predictions about its conte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nk, talk, and write about the topic of the tex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URING REA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Remind students to use comprehension strategies as they read and to monitor their understanding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Ask questions that keep students on track and focus their attention on main ideas and important points in the text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cus attention on parts in a text that require students to make inferences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Have students to summarize key sections or events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Encourage students to return to any predictions they have made before reading to see if they are confirmed by the text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FTER REA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Teachers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uide discussion of the read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k students to recall and tell in their own words important parts of the tex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fer students opportunities to respond to the reading in various ways, including through writing, dramatic play, music, readers' theatre, videos, debate, or pantomi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FTER REA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Students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aluate and discuss the ideas encountered in the tex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pply and extend these ideas to other texts and real life situatio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mmarize what was read by retelling the main ide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cuss ideas for further read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ADER RESPON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294920"/>
            <a:ext cx="74674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r>
              <a:rPr b="0" i="1" lang="en-US" sz="2200" spc="-1" strike="noStrike">
                <a:solidFill>
                  <a:srgbClr val="000000"/>
                </a:solidFill>
                <a:latin typeface="Franklin Gothic Book"/>
              </a:rPr>
              <a:t>.schools shouldn’t be about handing down a collection of static truths to the next generation but about responding to the needs and interests of the students themselves -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Alfie Koh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entury Schoolbook"/>
              </a:rPr>
              <a:t>Transactional Theory-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 act of reading involves a </a:t>
            </a:r>
            <a:r>
              <a:rPr b="0" i="1" lang="en-US" sz="2200" spc="-1" strike="noStrike">
                <a:solidFill>
                  <a:srgbClr val="000000"/>
                </a:solidFill>
                <a:latin typeface="Century Schoolbook"/>
              </a:rPr>
              <a:t>transaction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between the reader and the text. Each </a:t>
            </a:r>
            <a:r>
              <a:rPr b="0" i="1" lang="en-US" sz="2200" spc="-1" strike="noStrike">
                <a:solidFill>
                  <a:srgbClr val="000000"/>
                </a:solidFill>
                <a:latin typeface="Century Schoolbook"/>
              </a:rPr>
              <a:t>"transaction"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s a unique experience in which the reader and text continuously act and are acted upon by each othe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A written work does not have the same meaning for every reader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Each reader brings individual background knowledge, beliefs, and context to a reading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From the work of Louise Rosenblatt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CONFEREN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eworkshop.on.ca/edu/pdf/Mod17_user_guide.pdf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vimeopro.com/tcrwp/reading-literature/video/55957324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www.youtube.com/watch?v=lTgk89dhX1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will discuss Assessment another week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INDFUL COMPREHENSION INSTR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520" y="1295280"/>
            <a:ext cx="7696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mprehension is difficult to measure because people understand texts differentl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cus less on “if” a student comprehended a text and more on “how” she comprehended i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cus on efforts to build students’ metacognitive awareness—their awareness of the strategies they use to think about tex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e wary of teaching comprehension strategies in lock-step or uniform way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lnSpc>
                <a:spcPct val="8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lnSpc>
                <a:spcPct val="8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tentiona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ODAY’S CLA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der’s Worksho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rehens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terature Focus Unit Planning Ti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PLICIT AND STRATEGIC INSTR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395360"/>
            <a:ext cx="838224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xplicit Instru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monstration (modeling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ependent Prac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trategic Instru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ins what to 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ws how to do 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lains when to use the strategy and when it might be useful (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When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Why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we’re doing i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erring Word Meaning  (#9, 2: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XT TIM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er’s Worksho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 Cho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der’s Worksho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nilesson strategies- Comprehen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terature Focus Unit Present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QUIZ TIME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lete the comprehension quiz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nk about your thought processes as you are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omprehending this s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RITERS’ WORKSHO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niless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ependent Wri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ork on your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Place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riting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 (I Am From,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r write a Small Moments Story from your map) Try out what our mentor texts showed us about setting a scen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se our list of what writers write abou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ll someone about something on your Heart Map and write a Small Moments stor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ding Meeting- We’ll share our successes and strugg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70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ERCISE #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295280" y="1447560"/>
            <a:ext cx="64771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. Grw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1. dlghtf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. Knw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2. Hn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3. Nd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3. cr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4. Ws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4. rm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5. Wh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5. th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6. Ld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6. btw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7. Grd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7. hncfrt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8. Flw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8. m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9. 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9. kn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0. Spps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0. T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aken from:  Wilde, S. (2000). </a:t>
            </a:r>
            <a:r>
              <a:rPr b="0" i="1" lang="en-US" sz="2200" spc="-1" strike="noStrike">
                <a:solidFill>
                  <a:srgbClr val="000000"/>
                </a:solidFill>
                <a:latin typeface="Century Schoolbook"/>
              </a:rPr>
              <a:t>Miscue Analysis Made Easy: Building on Student Strength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. Portsmouth, NH: Heineman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ERCISE #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l chldrn, xcpt 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rw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p. thy s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knw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t thy wll grw p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 wy Wndy kn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s.  N d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h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sh ws tw yr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l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sh ws plyng n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rd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nd sh plckd nth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lw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d rn wth 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r mthr. 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pp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 mst hv lkd rth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lghtf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fr Mrs. Drlng pt h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n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 hr hrt 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r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“h, why cn’t 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m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lk ths vr!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ws ll tht pss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tw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m n th sbjct, b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ncfr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Wndy knw th th, s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grw p.  y lwy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knw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tr y r tw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w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s th begnnng f th n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URN AND TAL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What do the previous exercises say about what happens in your “Reader Mind” as you read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What do they say about comprehension instruc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Make a connection- What does your comprehension instruction involve? Does it get to the </a:t>
            </a:r>
            <a:r>
              <a:rPr b="0" i="1" lang="en-US" sz="3000" spc="-1" strike="noStrike">
                <a:solidFill>
                  <a:srgbClr val="000000"/>
                </a:solidFill>
                <a:latin typeface="Century Schoolbook"/>
              </a:rPr>
              <a:t>Heart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of Reading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What questions do you have about comprehension instruction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838080" y="1371240"/>
            <a:ext cx="7848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entury Schoolbook"/>
              </a:rPr>
              <a:t>Create mental images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:  Readers create a wide range of visual, auditory, and other sensory images as they read, and they become emotionally involved with what they read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entury Schoolbook"/>
              </a:rPr>
              <a:t>Use background knowledge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:  Readers use their prior knowledge before, during, and after reading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entury Schoolbook"/>
              </a:rPr>
              <a:t>Ask questions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:  Readers generate questions before, during, and after reading to clarify meaning, make predictions, and focus their attention on what’s important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https://encrypted-tbn3.gstatic.com/images?q=tbn:ANd9GcTtyfufzoFOMw8-ZHgpnAq2tae9_RRNjh6bLjJaWV-GdFlzhQvQJg"/>
          <p:cNvPicPr/>
          <p:nvPr/>
        </p:nvPicPr>
        <p:blipFill>
          <a:blip r:embed="rId1"/>
          <a:stretch/>
        </p:blipFill>
        <p:spPr>
          <a:xfrm rot="19611600">
            <a:off x="104400" y="44280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Bodoni MT Black"/>
              </a:rPr>
              <a:t>7 </a:t>
            </a:r>
            <a:r>
              <a:rPr b="1" lang="en-US" sz="4400" spc="-1" strike="noStrike">
                <a:solidFill>
                  <a:srgbClr val="000000"/>
                </a:solidFill>
                <a:latin typeface="Bodoni MT Black"/>
              </a:rPr>
              <a:t>Keys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7521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Make inferenc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 Readers use their prior knowledge and information from what they read to make predictions, seek answers to questions, draw conclusions, and create interpretations that deepen their understanding of the tex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Determine the most important ideas or them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 Readers identify key ideas or themes as they read, and they can distinguish between important and unimportant inform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https://encrypted-tbn3.gstatic.com/images?q=tbn:ANd9GcTtyfufzoFOMw8-ZHgpnAq2tae9_RRNjh6bLjJaWV-GdFlzhQvQJg"/>
          <p:cNvPicPr/>
          <p:nvPr/>
        </p:nvPicPr>
        <p:blipFill>
          <a:blip r:embed="rId1"/>
          <a:stretch/>
        </p:blipFill>
        <p:spPr>
          <a:xfrm rot="19611600">
            <a:off x="104400" y="44280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4"/>
          <p:cNvSpPr/>
          <p:nvPr/>
        </p:nvSpPr>
        <p:spPr>
          <a:xfrm>
            <a:off x="2133720" y="304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doni MT Black"/>
              </a:rPr>
              <a:t>7 </a:t>
            </a:r>
            <a:r>
              <a:rPr b="1" lang="en-US" sz="4400" spc="-1" strike="noStrike">
                <a:solidFill>
                  <a:srgbClr val="000000"/>
                </a:solidFill>
                <a:latin typeface="Bodoni MT Black"/>
              </a:rPr>
              <a:t>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23:13:40Z</dcterms:created>
  <dc:creator>dana karraker</dc:creator>
  <dc:description/>
  <dc:language>en-US</dc:language>
  <cp:lastModifiedBy>College of Education</cp:lastModifiedBy>
  <dcterms:modified xsi:type="dcterms:W3CDTF">2013-03-05T14:56:11Z</dcterms:modified>
  <cp:revision>14</cp:revision>
  <dc:subject/>
  <dc:title>C&amp;I 264: Point of View and Comprehension</dc:title>
</cp:coreProperties>
</file>